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940-B8B6-4A7A-B85A-5CCF283D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ACB-F528-4D8D-A2FE-11ADDDAB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45F-1B3D-4885-AA40-8FE0A848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13E-8CDC-43BF-B76C-9C50F2C8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943-C94D-4554-9302-C12A3301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E7B-CCCC-4611-8DDD-A430F6B4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B0B-5E96-4E56-AE07-34075E6B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FEA-6ECA-4227-BBB3-6DCCF11B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1AC-3F94-4346-9CA6-12202688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3F3-3E6F-4827-9E11-75ED18BB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A85-006C-4384-AF30-B55ED15F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130-AB39-4635-866B-CC90A81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F035-84D4-46BA-8FD2-DD04CBBFA1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Graphs and relation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Construction and interpretation of graph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A, Q. 9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A, Q. 10, 1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Extrapolation and interpolat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trapolation examines the relationship between two variables beyond the limit of the data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nterpolation is to infer the relationship between two distinct data point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A, Q.12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A, Q. 13, 15, 16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599840"/>
            <a:ext cx="84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If a relationship exists between variables, one can be said to be the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function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 of the other. You can describe a function with a table, a rule, or a graph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A function whose graph is a straight line is called a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linear function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he general equation of a straight line is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                              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where m is the gradient and c is the y-intercept .   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b3a2c7"/>
                </a:solidFill>
                <a:latin typeface="Cambria Math"/>
              </a:rPr>
              <a:t>(Draw graphs)               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714240" y="4714920"/>
          <a:ext cx="24336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4714920"/>
                    <a:ext cx="24336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A, Q.1, 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A, Q. 5, 6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Sketching straight-line graph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graph of a straight line can be obtained by plotting and joining together any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two points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on the lin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three most common ways of sketching a straight-line graph by hand are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Gradient-intercept method. 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x- and y- intercept method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Sketching a line over a required interval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Gradient-intercept form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00120"/>
            <a:ext cx="8543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Usually easiest when equation is in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                            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form. 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Plot the y-intercep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The gradient is given by m = rise/run. Write the gradient as a fraction and identify the rise and the run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Plot the second point by starting from the y-intercept and moving across and up or down as suggested by the gradient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Join the two points together with a straight line and label the graph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Example, Ex 10A, Q.7b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785880" y="1928880"/>
          <a:ext cx="207180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928880"/>
                    <a:ext cx="20718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x- and y- intercept method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Usually easiest when equation is in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    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form.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If a point is on the y-axis, its x-coordinate is 0. To find the y-intercept, substitute 0 for x and solve the equation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If a point is on the x-axis, its y-coordinate is 0. To find the x-intercept, substitute 0 for y and solve the equation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Plot the x- and y- intercepts on a set of axes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Join the two points together with a straight line and label the graph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Example, Ex 10A, Q.7a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714240" y="1928880"/>
          <a:ext cx="2000520" cy="5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928880"/>
                    <a:ext cx="200052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 Math"/>
              </a:rPr>
              <a:t>Sketching a line over a required interval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o sketch a graph between two given x-values, its end points must be known. We obtain the coordinates of the end points and join them together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lvl="1" marL="831960" indent="-46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Rearrange the equation to make y the subject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831960" indent="-46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Substitute each of the two given x-values and find the corresponding values of y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831960" indent="-46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Plot the end points on a set of axes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831960" indent="-46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Join the two points together and label the graph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Example, Ex 10A, Q.7g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A, Q. 7c, d, f, h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Applications of straight-line graph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hen modelling a linear relationship, remember that the y-intercept represents the value of the function when x = 0. This is usually the original value of something or a fixed cost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gradient represents the rate of change of the y-value with respect to the x-value. This is the change in y as x increases by 1 unit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22:54:18Z</dcterms:created>
  <dc:creator>08843474</dc:creator>
  <dc:description/>
  <dc:language>en-US</dc:language>
  <cp:lastModifiedBy>08843474</cp:lastModifiedBy>
  <dcterms:modified xsi:type="dcterms:W3CDTF">2011-06-02T01:14:15Z</dcterms:modified>
  <cp:revision>3</cp:revision>
  <dc:subject/>
  <dc:title>Graphs and relations</dc:title>
</cp:coreProperties>
</file>